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4B4-CB39-4A0F-829C-D3941990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B1D-72BD-446F-BAD8-ABFD08C3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D6F1-5113-4C9F-8A7D-CE4151B4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D654-831F-4C05-98A3-140AA508E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03DA-733B-448C-A2C1-87EDFBF2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3E92-9465-4C37-A23A-1DC86012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7DC2-D208-4E4D-AE31-B1F46BE0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1161-7F59-4A74-9676-C994E0A3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DCCE-9C62-4784-AB67-7EF3533A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F6E5-A48C-48D2-9F02-35799D89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FB9D-A98D-4014-9BE9-A24410B2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B69-B41B-46D3-BAD9-E15A2721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22E0-17EE-4DCA-8D91-1216204D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DC63-B151-4FF8-BCFE-EEFE726D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B767-62C0-4B46-B91C-F3BDDDD0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E127-D2FC-477E-A87B-497284C68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E703-A4FD-4F76-A283-E5390580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53FE-AA14-4C6A-A5CD-3DA1CFA3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167-1C9B-4C39-A3D0-9FBC2701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F0E5-6B68-477F-8382-9DEF3590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7A4-E00D-4236-B2E5-B2FB2645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C822-32BC-4C60-B5E6-CBA9D6D9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758-6742-481D-A6C7-08370C50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8B06-4087-443B-9B31-141EB856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264A-91D2-4DB1-9F95-FF47B7806D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B70E-6D45-415A-890D-AC7CAAE65E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Genome reannotation: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733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alatino"/>
              </a:rPr>
              <a:t>Dealing with the atypical, the ambiguous, and the contrary</a:t>
            </a:r>
            <a:endParaRPr b="0" lang="en-US" sz="4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omments for validation flag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Unusual splic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intr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Overlaps transpos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Unconventional translation star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ultiphase ex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S overlap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icistron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95280"/>
            <a:ext cx="91440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he dubious annota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ategorized as problematic/provisiona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scribed using 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 only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ossible gene fragment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llows capture of the ORF without condoning the gene mod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39116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he dubious transcrip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blematic transcrip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”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pported by single cDNA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ntrolled comments; distinguish between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hort CDS relative to cDNA length (stops throughout; no long ORF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hort CDS (previous case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138240"/>
            <a:ext cx="84582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Release 3.2 contributor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Kathy Campbel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ynn Crosb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Beverley Matthew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Andy Schroede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Brian Bettencour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Yanmei Hua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eyla Bayraktaroglu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avel Hradeck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Gillian Millbur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ima Misra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hris Smith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Eleanor Whitfiel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eili Zha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inglei Zhou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Annotated, but…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transcript classified as problemat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be exclud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learly flagg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pported by single cDNA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spect cDNA: possible unspliced intron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ranscript confidence ratings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data typ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358720"/>
            <a:ext cx="784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NA data (complete/partial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tein homology/protein domain(s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lagged as problemat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 system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Yes/no indication for each different level of supporting data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lexible and open-ended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an be dense and nuanced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Users can easily set different combinations of criteria for bulk data se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DNA and EST data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anscript structure supporte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UTRs support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DS supported (full-length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DS supported (partial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anscript overlaps cDNA(s) or EST(s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supporting protein data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Homologous protei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High scoring of similar length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ess simila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Indication of taxonomic range?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mplete protein domain(s) identifie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 cont.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(s)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blematic: [CV]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; possible gene fragmen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uncated CD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ossible pseudogen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S overlap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 open -ended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xperimental determination of 5’ en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Norther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ORFeome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icroarray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In situ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tein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Dealing with the messy on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llow provisional/problematic annotatio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inimize biases of current knowledg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exclude from rigorous data set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scribe and categorize using 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ld into a transcript rating system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Evidence tallying system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Bottom lin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nnotate generousl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riteria should not be too stringen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abel the ambiguous and atypica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Define a “problematic” categor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Use a CV to describ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vise a confidence-rating system or an evidence tally system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117360"/>
            <a:ext cx="838224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11T20:07:26Z</dcterms:created>
  <dc:creator>William M. Gelbart</dc:creator>
  <dc:description/>
  <dc:language>en-US</dc:language>
  <cp:lastModifiedBy>William M. Gelbart</cp:lastModifiedBy>
  <dcterms:modified xsi:type="dcterms:W3CDTF">1970-01-14T13:55:46Z</dcterms:modified>
  <cp:revision>13</cp:revision>
  <dc:subject/>
  <dc:title>Drosophila reannotation: Lessons learned</dc:title>
</cp:coreProperties>
</file>